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6D4-D97C-42B5-A2FB-A89B3C28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E3F-6D6F-46A4-AED1-DDEAD71B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065-C5DF-4471-B771-5E5D71EA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801-8940-47DA-A891-3AB36CD6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406-88E2-40CE-BABD-195FF3E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F16-64C7-4CF6-9995-B16F37A3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7B9-9A34-408D-8FA3-60FD0F52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CC7-D6F5-45D6-B830-415F7F02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253-9714-419E-98A7-3C3241FC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4D7-1119-427E-8FFD-1E428FE3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7C9-1D64-4366-B2F5-C79C11CF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11E-FA92-46FE-A26B-3DB6537F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9D8C-3E79-4A83-B242-B25F9E301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19520" y="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u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3733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chool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5029200"/>
            <a:ext cx="708660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y Be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logo1" descr=""/>
          <p:cNvPicPr/>
          <p:nvPr/>
        </p:nvPicPr>
        <p:blipFill>
          <a:blip r:embed="rId1"/>
          <a:stretch/>
        </p:blipFill>
        <p:spPr>
          <a:xfrm>
            <a:off x="2666880" y="1871640"/>
            <a:ext cx="33530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school is Glenb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a prim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Robin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Ma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At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Di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Th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w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8:21:45Z</dcterms:created>
  <dc:creator>4glenb2</dc:creator>
  <dc:description/>
  <dc:language>en-US</dc:language>
  <cp:lastModifiedBy>4glenb2</cp:lastModifiedBy>
  <dcterms:modified xsi:type="dcterms:W3CDTF">2009-09-30T09:05:10Z</dcterms:modified>
  <cp:revision>1</cp:revision>
  <dc:subject/>
  <dc:title>PowerPoint Presentation</dc:title>
</cp:coreProperties>
</file>